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AB31-F257-4419-80BA-263BBF15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C0FC-194A-4445-88CC-9AC4DD53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FE2A-8E6E-40F7-837D-5B77D812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691-EDAD-4937-B246-A61EC40B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96C8-3DE0-4698-A257-98357835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F434-B435-44F9-96C0-062555FC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404D-0F4C-4289-BE55-68238467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2B3E-E9DF-4DFE-8DC7-2F1802A0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2FD-F903-4BD1-8833-2F5F1985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F230-985C-4A4B-A6B9-8BD9C1AE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7228-6CC7-4445-9D36-4DEF5B06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D568-F367-4A08-B3FA-391C9385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>
              <a:spcBef>
                <a:spcPts val="1500"/>
              </a:spcBef>
              <a:buClr>
                <a:srgbClr val="80008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Berlin Sans FB Demi"/>
              </a:rPr>
              <a:t>Click to edit the outline text format</a:t>
            </a: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  <a:p>
            <a:pPr lvl="1" marL="386280" indent="-148320">
              <a:spcBef>
                <a:spcPts val="1500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Berlin Sans FB Demi"/>
              </a:rPr>
              <a:t>Second Outline Level</a:t>
            </a: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  <a:p>
            <a:pPr lvl="2" marL="594360" indent="-118800"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Berlin Sans FB Demi"/>
              </a:rPr>
              <a:t>Third Outline Level</a:t>
            </a: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  <a:p>
            <a:pPr lvl="3" marL="831960" indent="-118800">
              <a:spcBef>
                <a:spcPts val="1500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Berlin Sans FB Demi"/>
              </a:rPr>
              <a:t>Fourth Outline Level</a:t>
            </a: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  <a:p>
            <a:pPr lvl="4" marL="1069560" indent="-11880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Berlin Sans FB Demi"/>
              </a:rPr>
              <a:t>Fifth Outline Level</a:t>
            </a: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  <a:p>
            <a:pPr lvl="5" marL="1069560" indent="-11880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Berlin Sans FB Demi"/>
              </a:rPr>
              <a:t>Sixth Outline Level</a:t>
            </a: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  <a:p>
            <a:pPr lvl="6" marL="1069560" indent="-11880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Berlin Sans FB Demi"/>
              </a:rPr>
              <a:t>Seventh Outline Level</a:t>
            </a: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D5D3-985B-4DF4-920A-3F328705A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hyperlink" Target="http://images.google.co.uk/imgres?imgurl=http://pages.eidosnet.co.uk/pobotrol/lazybig.JPG&amp;imgrefurl=http://pages.eidosnet.co.uk/pobotrol/wholazy.htm&amp;h=205&amp;w=269&amp;sz=14&amp;tbnid=3z91UW-KGE0J:&amp;tbnh=82&amp;tbnw=108&amp;start=1&amp;prev=/images%3Fq%3DMr%2BLazy%26hl%3Den%26lr%3D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10.jpeg"/><Relationship Id="rId7" Type="http://schemas.openxmlformats.org/officeDocument/2006/relationships/image" Target="../media/image17.png"/><Relationship Id="rId8" Type="http://schemas.openxmlformats.org/officeDocument/2006/relationships/image" Target="../media/image11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pages.eidosnet.co.uk/pobotrol/lazybig.JPG&amp;imgrefurl=http://pages.eidosnet.co.uk/pobotrol/wholazy.htm&amp;h=205&amp;w=269&amp;sz=14&amp;tbnid=3z91UW-KGE0J:&amp;tbnh=82&amp;tbnw=108&amp;start=1&amp;prev=/images%3Fq%3DMr%2BLazy%26hl%3Den%26lr%3D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nternatedns.co.uk/family-assurance/_email/mr_chatterbox.gif&amp;imgrefurl=http://www.internatedns.co.uk/family-assurance/_email/email.htm&amp;h=221&amp;w=191&amp;sz=6&amp;tbnid=U1eEKjGQIvAJ:&amp;tbnh=102&amp;tbnw=88&amp;start=1&amp;prev=/images%3Fq%3DMr%2Bchatterbox%26hl%3Den%26lr%3D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3000" indent="-114300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Berlin Sans FB Dem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80"/>
                </a:solidFill>
                <a:latin typeface="Berlin Sans FB Demi"/>
              </a:rPr>
              <a:t>To learn how to describe people’s characters</a:t>
            </a:r>
            <a:endParaRPr b="1" lang="en-US" sz="2800" spc="-1" strike="noStrike">
              <a:solidFill>
                <a:srgbClr val="800080"/>
              </a:solidFill>
              <a:latin typeface="Berlin Sans FB Demi"/>
            </a:endParaRPr>
          </a:p>
          <a:p>
            <a:pPr marL="1143000" indent="-114300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Berlin Sans FB Dem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80"/>
                </a:solidFill>
                <a:latin typeface="Berlin Sans FB Demi"/>
              </a:rPr>
              <a:t>to learn the verb “ser” to describe different people</a:t>
            </a:r>
            <a:endParaRPr b="1" lang="en-US" sz="2800" spc="-1" strike="noStrike">
              <a:solidFill>
                <a:srgbClr val="800080"/>
              </a:solidFill>
              <a:latin typeface="Berlin Sans FB Demi"/>
            </a:endParaRPr>
          </a:p>
          <a:p>
            <a:pPr marL="1143000" indent="-114300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Berlin Sans FB Dem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80"/>
                </a:solidFill>
                <a:latin typeface="Berlin Sans FB Demi"/>
              </a:rPr>
              <a:t>to play a dice game to form phrases to describe people</a:t>
            </a:r>
            <a:endParaRPr b="1" lang="en-US" sz="28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42" name=""/>
          <p:cNvSpPr/>
          <p:nvPr/>
        </p:nvSpPr>
        <p:spPr>
          <a:xfrm>
            <a:off x="1835280" y="476280"/>
            <a:ext cx="4537080" cy="70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00720" y="1197000"/>
            <a:ext cx="3166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ñor fastidios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84720" y="3716280"/>
            <a:ext cx="352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ñora fastidios</a:t>
            </a:r>
            <a:r>
              <a:rPr b="0" lang="en-US" sz="5400" spc="-1" strike="noStrike">
                <a:solidFill>
                  <a:srgbClr val="ff3300"/>
                </a:solidFill>
                <a:latin typeface="Berlin Sans FB Demi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71640" y="3284640"/>
            <a:ext cx="2316240" cy="2458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27417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55640" y="836640"/>
            <a:ext cx="72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No) Me llevo bien con mi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16360" y="198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r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3141720"/>
            <a:ext cx="64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… timido / divertid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472428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No) me gusta mi… porque 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55640" y="9079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700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2708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2205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r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3860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3284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443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1773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I 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2205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You are (singul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11280" y="2781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He is /she is /you are (pol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3284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We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37893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You are (plu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11280" y="4365720"/>
            <a:ext cx="44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They are (m or f) / you (plural, pol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11280" y="981000"/>
            <a:ext cx="18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3300"/>
                </a:solidFill>
                <a:uFillTx/>
                <a:latin typeface="Comic Sans MS"/>
              </a:rPr>
              <a:t>To 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661000"/>
            <a:ext cx="5975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Mi hermana </a:t>
            </a:r>
            <a:r>
              <a:rPr b="0" lang="en-GB" sz="3500" spc="-1" strike="noStrike" u="sng">
                <a:solidFill>
                  <a:srgbClr val="000000"/>
                </a:solidFill>
                <a:uFillTx/>
                <a:latin typeface="Comic Sans MS"/>
              </a:rPr>
              <a:t>es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fastidios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734080"/>
            <a:ext cx="5975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Mis amigos </a:t>
            </a:r>
            <a:r>
              <a:rPr b="0" lang="en-GB" sz="3500" spc="-1" strike="noStrike" u="sng">
                <a:solidFill>
                  <a:srgbClr val="000000"/>
                </a:solidFill>
                <a:uFillTx/>
                <a:latin typeface="Comic Sans MS"/>
              </a:rPr>
              <a:t>son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divertid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5950080"/>
            <a:ext cx="5975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Mis amigos </a:t>
            </a:r>
            <a:r>
              <a:rPr b="0" lang="en-GB" sz="3500" spc="-1" strike="noStrike" u="sng">
                <a:solidFill>
                  <a:srgbClr val="000000"/>
                </a:solidFill>
                <a:uFillTx/>
                <a:latin typeface="Comic Sans MS"/>
              </a:rPr>
              <a:t>son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divertid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5734080"/>
            <a:ext cx="5975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Eres muy chismos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5640" y="2349360"/>
            <a:ext cx="3600360" cy="402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My sis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My m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My 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My broth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My par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2349360"/>
            <a:ext cx="3600360" cy="402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annoy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funn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sh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laz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hat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89000"/>
            <a:ext cx="820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Write the full sentence out, in Spanish, according to the 2 dice thr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on’t forget the verb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on’t forget the agreements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5547" r="0" b="0"/>
          <a:stretch/>
        </p:blipFill>
        <p:spPr>
          <a:xfrm>
            <a:off x="533520" y="304920"/>
            <a:ext cx="1734840" cy="2547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3573360"/>
            <a:ext cx="2016000" cy="2190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83956" t="67023" r="9879" b="16054"/>
          <a:stretch/>
        </p:blipFill>
        <p:spPr>
          <a:xfrm>
            <a:off x="2484360" y="260280"/>
            <a:ext cx="1727280" cy="2637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24000" y="3500280"/>
            <a:ext cx="1584360" cy="2305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7164360" y="3500280"/>
            <a:ext cx="1979640" cy="2376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Little Miss Somersault"/>
          <p:cNvPicPr/>
          <p:nvPr/>
        </p:nvPicPr>
        <p:blipFill>
          <a:blip r:embed="rId7"/>
          <a:stretch/>
        </p:blipFill>
        <p:spPr>
          <a:xfrm>
            <a:off x="6659640" y="404640"/>
            <a:ext cx="1944720" cy="2397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427640" y="404640"/>
            <a:ext cx="1981080" cy="2521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5508720" y="3500280"/>
            <a:ext cx="1655640" cy="2233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0"/>
          <a:stretch/>
        </p:blipFill>
        <p:spPr>
          <a:xfrm>
            <a:off x="3635280" y="3500280"/>
            <a:ext cx="1871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114264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800080"/>
                </a:solidFill>
                <a:latin typeface="Berlin Sans FB Demi"/>
              </a:rPr>
              <a:t>Los peque</a:t>
            </a:r>
            <a:r>
              <a:rPr b="1" lang="en-US" sz="7200" spc="-1" strike="noStrike">
                <a:solidFill>
                  <a:srgbClr val="800080"/>
                </a:solidFill>
                <a:latin typeface="Berlin Sans FB Demi"/>
              </a:rPr>
              <a:t>ños </a:t>
            </a:r>
            <a:r>
              <a:rPr b="1" lang="en-GB" sz="7200" spc="-1" strike="noStrike">
                <a:solidFill>
                  <a:srgbClr val="800080"/>
                </a:solidFill>
                <a:latin typeface="Berlin Sans FB Demi"/>
              </a:rPr>
              <a:t>se</a:t>
            </a:r>
            <a:r>
              <a:rPr b="1" lang="en-US" sz="7200" spc="-1" strike="noStrike">
                <a:solidFill>
                  <a:srgbClr val="800080"/>
                </a:solidFill>
                <a:latin typeface="Berlin Sans FB Demi"/>
              </a:rPr>
              <a:t>ñores y las pequeñas señoras</a:t>
            </a:r>
            <a:endParaRPr b="1" lang="en-US" sz="7200" spc="-1" strike="noStrike">
              <a:solidFill>
                <a:srgbClr val="800080"/>
              </a:solidFill>
              <a:latin typeface="Berlin Sans FB Dem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Little Miss Chatterbox Picture"/>
          <p:cNvPicPr/>
          <p:nvPr/>
        </p:nvPicPr>
        <p:blipFill>
          <a:blip r:embed="rId1"/>
          <a:stretch/>
        </p:blipFill>
        <p:spPr>
          <a:xfrm>
            <a:off x="324000" y="3675240"/>
            <a:ext cx="3809880" cy="3182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48320" y="3962520"/>
            <a:ext cx="38098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ñora chismos</a:t>
            </a:r>
            <a:r>
              <a:rPr b="0" lang="en-US" sz="5400" spc="-1" strike="noStrike">
                <a:solidFill>
                  <a:srgbClr val="ff3300"/>
                </a:solidFill>
                <a:latin typeface="Berlin Sans FB Demi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5547" r="0" b="0"/>
          <a:stretch/>
        </p:blipFill>
        <p:spPr>
          <a:xfrm>
            <a:off x="533520" y="304920"/>
            <a:ext cx="2438280" cy="3047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267080" y="609480"/>
            <a:ext cx="4191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ñor chismos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6262" r="0" b="0"/>
          <a:stretch/>
        </p:blipFill>
        <p:spPr>
          <a:xfrm>
            <a:off x="1066680" y="685800"/>
            <a:ext cx="2032200" cy="2971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95680" y="914400"/>
            <a:ext cx="3810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ñor</a:t>
            </a: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 content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2590920" cy="219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67080" y="4114800"/>
            <a:ext cx="3810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ñora</a:t>
            </a: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 content</a:t>
            </a:r>
            <a:r>
              <a:rPr b="0" lang="en-GB" sz="5400" spc="-1" strike="noStrike">
                <a:solidFill>
                  <a:srgbClr val="ff3300"/>
                </a:solidFill>
                <a:latin typeface="Berlin Sans FB Demi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47960" y="685800"/>
            <a:ext cx="380988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ñor</a:t>
            </a: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 timido</a:t>
            </a:r>
            <a:endParaRPr b="1" lang="en-US" sz="5400" spc="-1" strike="noStrike">
              <a:solidFill>
                <a:srgbClr val="800080"/>
              </a:solidFill>
              <a:latin typeface="Berlin Sans FB Dem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00080"/>
              </a:solidFill>
              <a:latin typeface="Berlin Sans FB Dem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ñora</a:t>
            </a: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 timid</a:t>
            </a:r>
            <a:r>
              <a:rPr b="0" lang="en-GB" sz="5400" spc="-1" strike="noStrike">
                <a:solidFill>
                  <a:srgbClr val="ff3300"/>
                </a:solidFill>
                <a:latin typeface="Berlin Sans FB Demi"/>
              </a:rPr>
              <a:t>a</a:t>
            </a:r>
            <a:endParaRPr b="1" lang="en-US" sz="5400" spc="-1" strike="noStrike">
              <a:solidFill>
                <a:srgbClr val="800080"/>
              </a:solidFill>
              <a:latin typeface="Berlin Sans FB Demi"/>
            </a:endParaRPr>
          </a:p>
        </p:txBody>
      </p:sp>
      <p:pic>
        <p:nvPicPr>
          <p:cNvPr id="54" name="" descr="Little Miss Shy Picture"/>
          <p:cNvPicPr/>
          <p:nvPr/>
        </p:nvPicPr>
        <p:blipFill>
          <a:blip r:embed="rId1"/>
          <a:stretch/>
        </p:blipFill>
        <p:spPr>
          <a:xfrm>
            <a:off x="609480" y="2971800"/>
            <a:ext cx="2413080" cy="312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83956" t="67023" r="9879" b="16054"/>
          <a:stretch/>
        </p:blipFill>
        <p:spPr>
          <a:xfrm>
            <a:off x="990720" y="533520"/>
            <a:ext cx="26445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907920"/>
            <a:ext cx="2879640" cy="2305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40360" y="1052640"/>
            <a:ext cx="45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67280" y="765000"/>
            <a:ext cx="460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ñ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perezos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22100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ñora</a:t>
            </a: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 perezos</a:t>
            </a:r>
            <a:r>
              <a:rPr b="0" lang="en-GB" sz="5400" spc="-1" strike="noStrike">
                <a:solidFill>
                  <a:srgbClr val="ff3300"/>
                </a:solidFill>
                <a:latin typeface="Berlin Sans FB Demi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Little Miss Greedy"/>
          <p:cNvPicPr/>
          <p:nvPr/>
        </p:nvPicPr>
        <p:blipFill>
          <a:blip r:embed="rId3"/>
          <a:stretch/>
        </p:blipFill>
        <p:spPr>
          <a:xfrm>
            <a:off x="826920" y="3860640"/>
            <a:ext cx="3095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0" y="765000"/>
            <a:ext cx="38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ñor divertid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836640"/>
            <a:ext cx="3167280" cy="2736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356000" y="4149720"/>
            <a:ext cx="42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ñora</a:t>
            </a: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 divertid</a:t>
            </a:r>
            <a:r>
              <a:rPr b="0" lang="en-GB" sz="5400" spc="-1" strike="noStrike">
                <a:solidFill>
                  <a:srgbClr val="ff3300"/>
                </a:solidFill>
                <a:latin typeface="Berlin Sans FB Demi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Little Miss Chatterbox"/>
          <p:cNvPicPr/>
          <p:nvPr/>
        </p:nvPicPr>
        <p:blipFill>
          <a:blip r:embed="rId3"/>
          <a:stretch/>
        </p:blipFill>
        <p:spPr>
          <a:xfrm>
            <a:off x="971640" y="4005360"/>
            <a:ext cx="302400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55640" y="836640"/>
            <a:ext cx="24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549360"/>
            <a:ext cx="2449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1981080" cy="201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042920" y="3500280"/>
            <a:ext cx="1886040" cy="1990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211640" y="981000"/>
            <a:ext cx="36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ñor suci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11640" y="364500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ñora suci</a:t>
            </a:r>
            <a:r>
              <a:rPr b="0" lang="en-US" sz="5400" spc="-1" strike="noStrike">
                <a:solidFill>
                  <a:srgbClr val="ff3300"/>
                </a:solidFill>
                <a:latin typeface="Berlin Sans FB Demi"/>
                <a:ea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2448000" cy="187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00720" y="1197000"/>
            <a:ext cx="316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ñor cariños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84720" y="3716280"/>
            <a:ext cx="302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ñora cariños</a:t>
            </a:r>
            <a:r>
              <a:rPr b="0" lang="en-US" sz="5400" spc="-1" strike="noStrike">
                <a:solidFill>
                  <a:srgbClr val="ff3300"/>
                </a:solidFill>
                <a:latin typeface="Berlin Sans FB Demi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16000" y="3716280"/>
            <a:ext cx="2232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19:55:31Z</dcterms:created>
  <dc:creator>R Parker</dc:creator>
  <dc:description/>
  <dc:language>en-US</dc:language>
  <cp:lastModifiedBy>Owner1</cp:lastModifiedBy>
  <dcterms:modified xsi:type="dcterms:W3CDTF">2008-12-06T08:10:07Z</dcterms:modified>
  <cp:revision>17</cp:revision>
  <dc:subject/>
  <dc:title>PowerPoint Presentation</dc:title>
</cp:coreProperties>
</file>